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FD5-D569-4936-AF46-B2B09009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86F-9230-4D60-B047-7B6F5DF2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519-FD45-4FDC-B827-60101910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E7A-7738-4E14-80F5-3B7B7A37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A20-116C-4296-BBEF-A5B7AB04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F48-AB70-4030-B992-53DF0068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65B-6C8A-4D5A-A7CC-61E4B6CC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C20-7564-4AB0-A257-F0E66E5F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862-3565-4780-AE25-F98297EB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F20-8730-4249-B506-DF3F0CB6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A65-50F4-4104-BA06-72D9AB7D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ECB-59B4-4B17-8563-807BFDE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8FECB-CF14-42FF-B58D-0FD498FAF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 and CM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 towards CMap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MAE - CMap Assembly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 F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12720" y="1690560"/>
            <a:ext cx="707580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lighted Features in CMap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8000" y="218772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t plot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t map gly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igurable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twork install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t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271520"/>
            <a:ext cx="4559400" cy="535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10552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t Map Feature Gly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91040" y="1589040"/>
            <a:ext cx="162540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h to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up Chado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MWare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E – CMap Assembly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742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